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935C-0CC5-4EF5-AC66-5069C9AE9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DE68-6946-43B9-99EE-17231DA64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1239-5DB0-4B7A-942C-17CAFB5C3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EC33-DF08-4893-89BE-C1748C094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DBDD-9236-4DED-96F6-0E6924BC2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5909-788B-4591-813B-302E78F7D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9456-99B2-4305-AB50-D481598AE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C0DD-B29B-4A1B-AA11-3C947C0FD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122C-D4A8-47E9-9EBD-8E82DBEAC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222F-CA58-4FCB-8588-2B41AC46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C35F-364D-4386-B758-EB16371F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E96F-F120-4732-9A3B-C3999ED3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31311-3DE1-471F-B232-834F9E8317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er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ting the Author’s Mes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pp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u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you please be quiet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you please be quiet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a predi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an inference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n infere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0" descr=""/>
          <p:cNvPicPr/>
          <p:nvPr/>
        </p:nvPicPr>
        <p:blipFill>
          <a:blip r:embed="rId1"/>
          <a:stretch/>
        </p:blipFill>
        <p:spPr>
          <a:xfrm>
            <a:off x="2133720" y="2328840"/>
            <a:ext cx="5295960" cy="41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hors don’t tell you everything…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y provide clues and you have to figure it out on your ow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y are sending you a message… you must interpret 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4648320" y="1447920"/>
            <a:ext cx="4111560" cy="53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nference can be made from this pi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Content Placeholder 8" descr="spaceball.gif"/>
          <p:cNvPicPr/>
          <p:nvPr/>
        </p:nvPicPr>
        <p:blipFill>
          <a:blip r:embed="rId1"/>
          <a:srcRect l="-38462" t="0" r="-38462" b="0"/>
          <a:stretch/>
        </p:blipFill>
        <p:spPr>
          <a:xfrm>
            <a:off x="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1197000" y="3392640"/>
            <a:ext cx="12600" cy="12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3"/>
          <a:stretch/>
        </p:blipFill>
        <p:spPr>
          <a:xfrm>
            <a:off x="5848200" y="3044880"/>
            <a:ext cx="12960" cy="126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9"/>
          <p:cNvSpPr/>
          <p:nvPr/>
        </p:nvSpPr>
        <p:spPr>
          <a:xfrm>
            <a:off x="2286000" y="29671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e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nference can be made from this pi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can you inf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erences about a perso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river stepped on the gas and gunned the engine. The tires of the car screeched noisily as the car lunged forward. Recklessly, he cut off a mini-van and swerved, narrowly missing a man on a bicycl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you predict about this pers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know for sure about this person (inference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51920" y="380880"/>
            <a:ext cx="53341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ight my brother heard the ghost, he and I had gone to bed early. Our bedroom, crammed with ghost slayer toys and poster, was just above the garage. I had read a comic book and dropped off to sleep, but my brother lay awake, excited because the next day was his birthday. Neither of us knew that our parents had bought him a puppy and hidden it in the garages. So, in the middle of the night,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hen the eerie yowling and the sound of crawling bega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my brother immediately assumed the worst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8320" y="533160"/>
            <a:ext cx="403848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0" y="456840"/>
            <a:ext cx="87631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All I could do was stand there with the whole neighborhood watching and shake the hand of the leather-brown old man. I saw how his gray hair straggled from under his big black hat, which had a drooping feather in its crown. His rumpled black suit hung like a sack over his stooped frame. As he shook my hand, his coat fell open to expose a bright red stain shirt with a beaded bolo tie under his collar. His get-up wasn’t out of place on the reservation, but it sure was here, </a:t>
            </a:r>
            <a:r>
              <a:rPr b="1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and I wanted to sink right through the pavement.</a:t>
            </a:r>
            <a:r>
              <a:rPr b="0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02:24:27Z</dcterms:created>
  <dc:creator>Shawn Hyer</dc:creator>
  <dc:description/>
  <dc:language>en-US</dc:language>
  <cp:lastModifiedBy>Shawn Hyer</cp:lastModifiedBy>
  <dcterms:modified xsi:type="dcterms:W3CDTF">2009-10-26T12:06:24Z</dcterms:modified>
  <cp:revision>21</cp:revision>
  <dc:subject/>
  <dc:title>Drawing Conclusions</dc:title>
</cp:coreProperties>
</file>